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08C-12E3-4534-9916-E4F6C73D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7DE-7AD2-4BA6-9BC4-67F2EB72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9D5-1C58-4842-828A-094CB3C7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A49-02B4-4511-8C28-38D78C7E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D5A8-880D-4650-A1C5-A777D59F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CE72-CDA1-456B-A850-C921A4BC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7F8D-EBBD-4C73-B5B0-F7EC5D12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4132-9074-433E-BA26-F14DA4AF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3C80-3B00-458F-80E5-AD9FB824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E25B-4F7A-4DE3-98D6-860E93A8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0575-2C8F-4018-9124-66DC0477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82E-AD5E-42D3-947A-023135AF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4076-53A5-4E75-8AF0-0BE13F99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76C5-9367-408D-A14F-3FA6B012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7E94-95D7-4A85-B8CC-549DA3F6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24F0-1708-4D7D-9954-D3925192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9A5A-8F95-44AA-9FF0-B3FA65D2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9FB3-EDC6-46E6-9464-EDAC3077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A9CB-31AC-4E4C-B9B6-98B1BD52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79EF9-126B-4889-ADD8-8C826299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6FE1-59D9-41CB-A56C-96AC48E3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FD494-D9F5-4B32-BEF3-B9696014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10F-9FAC-4DB7-9F3F-D779685F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29C87-1ADD-402A-86D9-850DC230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C6DC-D3F9-45BE-A0FB-992A515B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1649D-0DBC-4C3C-A8D8-2C5EE34D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25C48-5126-450B-82CE-63C84CC5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907D1-A4B8-4C50-A57E-3ACF925C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C7454-F929-4446-8CAB-214255AF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7B77C-8A94-4F5C-A42B-A348BE61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C1640-F6A2-4D70-AE34-04EAF7C4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21492-419C-4FFA-B4EC-4FCD04DE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D38D2-AEF0-42AF-8DE7-A4AD5B86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3F8-6AE7-462F-86E6-48FE2A09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539C2-56A1-486D-B4A4-4737BBD4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CF9AD-A48B-492A-B83C-711410C7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7D007-0DB6-4227-85DE-DAB675B7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CA01D-423B-453B-85C8-775B3CC3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B07CD-F21B-438F-A920-45061199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C19AB-8E2D-4444-816F-7841537F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1ED48-7771-4A47-A99F-1DC68B57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0A55F-7CFC-4178-B7F7-DA8F1B20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C6F85-9802-42EE-9056-267B110F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FC7-A74F-4067-8E0D-C7D3B5D1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2E7-7375-4B1C-AC00-7A2DBEEC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8A4-650D-4EE3-BCCB-17F19BF8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2C6-840D-4CD3-9EB5-21C09C76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BF6-F8CD-4614-8921-5AB20413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19A15F-E0FC-4AC4-84F9-E21C5B4C9E8A}" type="slidenum"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F72F93-6817-4FF6-B054-404843D26F30}" type="slidenum"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AF8FC4-AA4F-42B9-9007-59A5415D5959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1A0951-CFD6-4A51-9E73-4C226A283E26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b7"/>
                </a:solidFill>
                <a:latin typeface="Arial Black"/>
              </a:rPr>
              <a:t>Our environment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are we doing to our plan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Air, land and water pollu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olution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7080" indent="-307080"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Countries should control the level of pollution in industri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7080" indent="-307080"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Industries cannot settle in certain area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7080" indent="-307080"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upport organisations such as Greenpeac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70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3941280"/>
            <a:ext cx="822960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050920" y="3357720"/>
            <a:ext cx="4537080" cy="343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Destruction of rainfores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Problem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ost trees are cut down to get wood, to make paper, medicines and for fue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pecies of animals and flowers disappear every da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4859280" y="393372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4859280" y="1052640"/>
            <a:ext cx="3673440" cy="282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Arial"/>
              </a:rPr>
              <a:t>Destruction of rainforest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Solution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To plant more tre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To use less paper and woo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To recycle mo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979640" y="3789360"/>
            <a:ext cx="5040360" cy="279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5440"/>
            <a:ext cx="82310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Wood fi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31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Problem: Fires destroy forests and woods, their trees, animals and vegetatio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56000" y="2809800"/>
            <a:ext cx="4900320" cy="37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cc"/>
                </a:solidFill>
                <a:latin typeface="Arial"/>
              </a:rPr>
              <a:t>Wood fir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Solutions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Adults shouldn´t through away cigarrete end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Don´t throw broken glass bottles, tins, plastic bags,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93480"/>
            <a:ext cx="82310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Traffi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31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ars burn gasoline, which produce carbon dioxide, the gas that causes the green house effec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753080" cy="364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Traffi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24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Solutions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To use public transpor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To travel by bike or on foot as much as we ca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To use other energy sources: wind power, solar power, hydroelectric,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673520" y="1413000"/>
            <a:ext cx="3643560" cy="4717800"/>
            <a:chOff x="4673520" y="1413000"/>
            <a:chExt cx="3643560" cy="471780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4673520" y="1413000"/>
              <a:ext cx="3643560" cy="47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 txBox="1"/>
            <p:nvPr/>
          </p:nvSpPr>
          <p:spPr>
            <a:xfrm>
              <a:off x="4673520" y="1413000"/>
              <a:ext cx="3643560" cy="471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3104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Some fac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We have caused over 40% of the world´s rainforests to disapp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We have polluted the air, the sea and the lan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We have killed lots of species of animals and plan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We have used up most of tje planet´s water and energy resourc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3104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We have changed the world´s climat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We are growing so fast that all these problems are getting worse every 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ctr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Verdana"/>
              </a:rPr>
              <a:t>What can we do?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Water was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38680" indent="-2386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Problem: The shortage of clean water is one of the most urgent problems in the world due to the growth of the </a:t>
            </a: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population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, the </a:t>
            </a: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pollution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 of water supplies and the decrease in </a:t>
            </a: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water reserv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476360" y="3500280"/>
            <a:ext cx="6048360" cy="2953080"/>
            <a:chOff x="1476360" y="3500280"/>
            <a:chExt cx="6048360" cy="295308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1476360" y="3500280"/>
              <a:ext cx="6048360" cy="29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 txBox="1"/>
            <p:nvPr/>
          </p:nvSpPr>
          <p:spPr>
            <a:xfrm>
              <a:off x="1476360" y="3500280"/>
              <a:ext cx="6048360" cy="295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00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Water was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Solution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Protect water suppli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Verdana"/>
              </a:rPr>
              <a:t>Save water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: keeping the tap clos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Re-using wa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771640" y="3645000"/>
            <a:ext cx="38163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Rubbish and waste dispos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21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roblem: domestic wast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olutions: - To recycle paper, glass, metal and plasti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o turn rubbish into energy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268360" y="3379680"/>
            <a:ext cx="4248360" cy="326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3104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Air, land and water pollu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7530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Problem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Factories send gases into the air. The gases mix with water in the air (acid rain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503880" cy="4537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35280" y="1557000"/>
            <a:ext cx="3467160" cy="45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3104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Air, land and water pollu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Verdana"/>
              </a:rPr>
              <a:t>Pesticides and fertilizers used in farms are poisonous to living thing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747960" cy="420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3104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Air, land and water pollu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- Industrial chemical waste is carried by the rivers into the seas, by dumping from ships and by sewage disposal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3270240" cy="367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9:36:12Z</dcterms:created>
  <dc:creator>Spud</dc:creator>
  <dc:description/>
  <dc:language>en-US</dc:language>
  <cp:lastModifiedBy>WinuE</cp:lastModifiedBy>
  <dcterms:modified xsi:type="dcterms:W3CDTF">2009-11-07T22:52:09Z</dcterms:modified>
  <cp:revision>18</cp:revision>
  <dc:subject/>
  <dc:title>Animal Surviv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